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939EE-68F2-4727-B91A-13F0752BC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960E1-9F8E-4431-9A8D-551D3702E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69ACB-5415-48B1-9411-9FA26F0DC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BE179-E4FF-4320-9FC9-388D889A4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888BD-8672-4575-AC3D-4C6C99056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4AAE1-B72A-45E7-B474-9DF7E2468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2E1E7-21FF-40B5-B717-3724FB703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7C0C8-B55B-4B79-BF15-80130CD24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305D6-C20C-456A-8C40-D3F887F50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BF562-4834-421D-BDB9-293749BBA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A3F5B-C876-4F97-A20A-EB9E8FFDC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9C1EF-39E7-4A6E-88E2-E8BD55271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9805-F825-48B1-885F-F8E88671D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848720" cy="281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99"/>
                </a:solidFill>
                <a:latin typeface="Comic Sans MS"/>
              </a:rPr>
              <a:t>RUN BABY RUN</a:t>
            </a:r>
            <a:endParaRPr b="0" lang="en-US" sz="8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Conclu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r>
              <a:rPr b="0" lang="en-US" sz="3200" spc="-1" strike="noStrike">
                <a:solidFill>
                  <a:srgbClr val="00ff00"/>
                </a:solidFill>
                <a:latin typeface="Arial"/>
              </a:rPr>
              <a:t>It was a pretty close tie. Kash and Aubree were close but Kash beat her. Then it was Trae was next after Aubree and then Layne. Tori and Layne got pretty close but Tori got .01 more miles. It was a tie I think cause it all balances ou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Possible Cause of Erro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me one just walking not trying hard</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Leaning up against the bars on the treadmill</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topping the treadmill and starting over</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Resting then starting up again</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Having a different time for every per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Acknowledg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Mrs. Riffel</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rae</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ori</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Layne </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helsey</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ubree</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ash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Time Sp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2= 3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3= 4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4= 3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5= 4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14= 4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15= 30 min.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January 24= 1 hr.</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eb. 1= 1hr.</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eb. 3= 3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eb. 5= 40 min.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eb. 6= 20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eb. 9= 30 min.</a:t>
            </a:r>
            <a:endParaRPr b="0" lang="en-US" sz="20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ff"/>
                </a:solidFill>
                <a:latin typeface="Comic Sans MS"/>
              </a:rPr>
              <a:t>Introduction</a:t>
            </a: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rPr>
              <a:t>	</a:t>
            </a:r>
            <a:r>
              <a:rPr b="0" lang="en-US" sz="3200" spc="-1" strike="noStrike">
                <a:solidFill>
                  <a:srgbClr val="00ff00"/>
                </a:solidFill>
                <a:latin typeface="Comic Sans MS"/>
              </a:rPr>
              <a:t>	</a:t>
            </a:r>
            <a:r>
              <a:rPr b="0" lang="en-US" sz="3200" spc="-1" strike="noStrike">
                <a:solidFill>
                  <a:srgbClr val="00ff00"/>
                </a:solidFill>
                <a:latin typeface="Comic Sans MS"/>
              </a:rPr>
              <a:t>Have you ever wondered which gender can run further in 10 min. Well that’s why I picked this project. I’ve always wanted to know. Because we have a lot of kids that can run fast but I don’t know if they can run far. The ones that run fast get tired faster too, so they probably couldn’t run the 100 meter dash. But I just want to know if girls can out run bo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Back Ground Info.</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rPr>
              <a:t>	</a:t>
            </a:r>
            <a:r>
              <a:rPr b="0" lang="en-US" sz="3200" spc="-1" strike="noStrike">
                <a:solidFill>
                  <a:srgbClr val="00ff00"/>
                </a:solidFill>
                <a:latin typeface="Comic Sans MS"/>
              </a:rPr>
              <a:t>When boys grow up they grow stronger to. Test over years show that boys have always been faster than some girls. But some girls are faster than most boys. Girls can also be stronger. Some girls were born with this and others train for it. But over all its pretty much a tie for who is stronger and faster.</a:t>
            </a: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Hypothesi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r>
              <a:rPr b="0" lang="en-US" sz="3200" spc="-1" strike="noStrike">
                <a:solidFill>
                  <a:srgbClr val="00ff00"/>
                </a:solidFill>
                <a:latin typeface="Arial"/>
              </a:rPr>
              <a:t>I think the girls will run further that the boys. Mostly because we have a lot of sporty girls. Also boys get tired fast than the girls so they slow down. But it might be a close 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Material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3 girls</a:t>
            </a:r>
            <a:endParaRPr b="0" lang="en-US" sz="3200" spc="-1" strike="noStrike">
              <a:solidFill>
                <a:srgbClr val="000000"/>
              </a:solidFill>
              <a:latin typeface="Arial"/>
            </a:endParaRPr>
          </a:p>
          <a:p>
            <a:pPr marL="609480" indent="-609480">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3 boys </a:t>
            </a:r>
            <a:endParaRPr b="0" lang="en-US" sz="3200" spc="-1" strike="noStrike">
              <a:solidFill>
                <a:srgbClr val="000000"/>
              </a:solidFill>
              <a:latin typeface="Arial"/>
            </a:endParaRPr>
          </a:p>
          <a:p>
            <a:pPr marL="609480" indent="-609480">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 treadmill for everyone</a:t>
            </a:r>
            <a:endParaRPr b="0" lang="en-US" sz="3200" spc="-1" strike="noStrike">
              <a:solidFill>
                <a:srgbClr val="000000"/>
              </a:solidFill>
              <a:latin typeface="Arial"/>
            </a:endParaRPr>
          </a:p>
          <a:p>
            <a:pPr marL="609480" indent="-609480">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Gym clothes to wear </a:t>
            </a:r>
            <a:endParaRPr b="0" lang="en-US" sz="3200" spc="-1" strike="noStrike">
              <a:solidFill>
                <a:srgbClr val="000000"/>
              </a:solidFill>
              <a:latin typeface="Arial"/>
            </a:endParaRPr>
          </a:p>
          <a:p>
            <a:pPr marL="609480" indent="-609480">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Good shoes to run 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Independent Variabl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Which gender ran fast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a:rPr>
              <a:t>Dependent Variab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Which gender traveled the farth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Proced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Gather all material </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Go to the work out room</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ake a couple of people and put them on treadmill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et the speed the same for everyone </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eep on speeding up the speed</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Wait until 10 min. is up </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hen write down the persons di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Resul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BOY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Layne: 1.05 mile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rae: 1.22 mile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ash: 1.43 mil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GIRL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ubree: 1.33 mile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ori: 1.06 mile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helsey: 0.93 mil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9:11:08Z</dcterms:created>
  <dc:creator>USD376</dc:creator>
  <dc:description/>
  <dc:language>en-US</dc:language>
  <cp:lastModifiedBy>STERLING  USD376</cp:lastModifiedBy>
  <dcterms:modified xsi:type="dcterms:W3CDTF">2010-02-10T20:22:16Z</dcterms:modified>
  <cp:revision>12</cp:revision>
  <dc:subject/>
  <dc:title>Which gender can run further in 10 min.</dc:title>
</cp:coreProperties>
</file>